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4CD6-C252-47DC-B4CB-4898254DF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4ABD-F825-47BF-9FEB-808BEAF4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F502-8A56-4EDF-BF6B-9E02AF604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4BD3-600A-487E-BDB1-5A660F2D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9057-C83B-476F-8A3E-A55FD4A2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8D72-AF03-4EC1-AA2F-38CB25BB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4EB3-3ABB-4DA7-8103-3202AD5D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1528-11BC-4DA8-96B4-526D7A07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8720-87D9-4226-809C-E397BAF5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8E28-310F-4F9F-B03E-3B05D9C3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FBAB-AE1F-4AF9-BDEC-56E3908B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08C8-5535-46D6-AEE0-79201673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338E-1815-4733-9934-4F616A7737BF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68 Len môjho Pána spravodlivo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môjho Pán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ravodlivo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svadobného šatu skvo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o rúcho on mi darov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, aby som s ním večer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tej nádej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nes vyznávam rá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m, že som blúdi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nohokrá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26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ak jeho krv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j zmyla hrie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šat môj je belší ako sne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s tebou,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stotu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pokušeniu odol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26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 každej hriechu pohan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tvoja moc ma ochrán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z prachu ze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kriesený raz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zriem tu krásnu novú vlas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d tebou skloním kolen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Láska večná, bezmedzná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12-15T05:47:16Z</dcterms:modified>
  <cp:revision>38</cp:revision>
  <dc:subject/>
  <dc:title>Je veľký náš Pán, on slávy je Kráľ Nech do všetkých strán  spev vrúcnych znie chvál.</dc:title>
</cp:coreProperties>
</file>